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5589720"/>
            <a:ext cx="9325080" cy="136836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9239400" cy="19890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2948040" y="333360"/>
            <a:ext cx="3278160" cy="1336680"/>
            <a:chOff x="2948040" y="333360"/>
            <a:chExt cx="3278160" cy="1336680"/>
          </a:xfrm>
        </p:grpSpPr>
        <p:sp>
          <p:nvSpPr>
            <p:cNvPr id="45" name="AutoShape 5"/>
            <p:cNvSpPr/>
            <p:nvPr/>
          </p:nvSpPr>
          <p:spPr>
            <a:xfrm>
              <a:off x="2948040" y="333360"/>
              <a:ext cx="3278160" cy="1336680"/>
            </a:xfrm>
            <a:prstGeom prst="roundRect">
              <a:avLst>
                <a:gd name="adj" fmla="val 116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2948040" y="333360"/>
              <a:ext cx="327816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199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5000" indent="-4050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1440" indent="-367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7880" indent="-33084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1400" indent="-33084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67840" indent="-29376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PHP e  MySQL (2)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2880" y="3300480"/>
            <a:ext cx="7848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7000"/>
              </a:lnSpc>
              <a:spcBef>
                <a:spcPts val="29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Laboratorio di Progettazione Web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spcBef>
                <a:spcPts val="29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A 2009/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spcBef>
                <a:spcPts val="29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iara Ren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TI- CNR - c.renso@isti.cnr.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792036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– dettagli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252080"/>
            <a:ext cx="79200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&lt;?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clude("connection.inc"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id=$_GET[idrecord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sql="select * from primatabella where Progressivo=$id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res=mysql_query($sql,$conn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hile ($records=mysql_fetch_assoc($res)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cho "ID: $records[Progressivo] &lt;/A&gt;&lt;BR&gt;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cho "Nome: $records[Nome] &lt;BR&gt;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cho "Cognome:$records[Cognome] &lt;BR&gt;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}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5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0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serimento parametri da FORM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7921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6720" indent="-39672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er l’inserimento, modifica e cancellazione dei record i parametri vengono generalmente forniti dall’utente e non codificati nella pagina PH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er permettere all’utente di inserire i parametri si usano le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indi ogni operazione sul DB verrà attivata in seguito alla sottomissione di una Form da parte dell’ut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990720" y="4952880"/>
            <a:ext cx="10666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209680" y="5715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76720" y="4952880"/>
            <a:ext cx="16556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219320" y="5791320"/>
            <a:ext cx="6858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219320" y="5334120"/>
            <a:ext cx="6858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219320" y="5562720"/>
            <a:ext cx="6858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066680" y="5029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76720" y="5029200"/>
            <a:ext cx="167472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&lt;? … campo1=$_REQUEST[Campo1]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…</a:t>
            </a: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$sql=INSERT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…</a:t>
            </a:r>
            <a:r>
              <a:rPr b="1" lang="it-IT" sz="1000" spc="-1" strike="noStrike">
                <a:solidFill>
                  <a:srgbClr val="000033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523880" y="6019920"/>
            <a:ext cx="38124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580000" y="4653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er la INSERT occorre una Form di inserimento dati nel 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4920" y="4572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rminsert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95480" y="4572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nsert.ph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0" y="522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ampo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5120" y="-360"/>
            <a:ext cx="79203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rittografare le password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254240"/>
            <a:ext cx="7920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I sono casi in cui le informazioni che registriamo del DB non possono essere tenute “in chiaro”, ad esempio le password utent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questo caso possiamo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cifrar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la password da memorizzare in modo tale che se il contenuto del DB dovesse essere visualizzato, la password non sarebbe comunque decifrabil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funzione comunemente usata è md5() che genera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un hash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i una string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volta memorizzata la password cifrata nel DB possiamo controllarla confrontandola con la versione cifrata della password inserita dall’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rittografare le password -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400" y="1139400"/>
            <a:ext cx="815652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&lt;? $logininserito=$_POST[login]; //ricevo login dalla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$passwordinserita = $_POST[password]; //ricevo pass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$passwordinseritamd5 = md5($passwordinserita); //cifro la passwor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// cerco nella tabella utenti il login corrispondente a quello inserito nella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$sql=“select * from utenti where login=$logininserito”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$res=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ysql_query($sql,$conn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……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f ($records[‘password’] == 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$passwordinseritamd5 ) { echo “login corretto”; } else { echo “password errata”;}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1080"/>
            <a:ext cx="7921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ancellazione di Record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565200"/>
            <a:ext cx="80960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el caso della cancellazione occorre prima selezionare il record da cancellare tra tutti i record disponibili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a lista dei record viene prima visualizzata con una “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select * from tabell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” . Da questa lista selezioniamo il record da cancell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a lista dei record sono link alla pagina php di cancellazione. Uso il passaggio di parametri tramite queryst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84360" y="4292640"/>
            <a:ext cx="7328880" cy="1981080"/>
            <a:chOff x="684360" y="4292640"/>
            <a:chExt cx="7328880" cy="1981080"/>
          </a:xfrm>
        </p:grpSpPr>
        <p:sp>
          <p:nvSpPr>
            <p:cNvPr id="162" name="Rectangle 5"/>
            <p:cNvSpPr/>
            <p:nvPr/>
          </p:nvSpPr>
          <p:spPr>
            <a:xfrm>
              <a:off x="5782680" y="4292640"/>
              <a:ext cx="215100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862240" y="4292640"/>
              <a:ext cx="21510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33"/>
                  </a:solidFill>
                  <a:latin typeface="Arial"/>
                </a:rPr>
                <a:t>&lt;?  $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ID=</a:t>
              </a:r>
              <a:r>
                <a:rPr b="1" lang="it-IT" sz="1400" spc="-1" strike="noStrike">
                  <a:solidFill>
                    <a:srgbClr val="000033"/>
                  </a:solidFill>
                  <a:latin typeface="Arial"/>
                </a:rPr>
                <a:t>$_GET[ID]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33"/>
                  </a:solidFill>
                  <a:latin typeface="Arial"/>
                </a:rPr>
                <a:t>$sql=“DELETE FROM…WHERE id= “$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r>
                <a:rPr b="1" lang="it-IT" sz="1400" spc="-1" strike="noStrike">
                  <a:solidFill>
                    <a:srgbClr val="000033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Group 7"/>
            <p:cNvGrpSpPr/>
            <p:nvPr/>
          </p:nvGrpSpPr>
          <p:grpSpPr>
            <a:xfrm>
              <a:off x="684360" y="4292640"/>
              <a:ext cx="5018400" cy="1523880"/>
              <a:chOff x="684360" y="4292640"/>
              <a:chExt cx="5018400" cy="1523880"/>
            </a:xfrm>
          </p:grpSpPr>
          <p:sp>
            <p:nvSpPr>
              <p:cNvPr id="165" name="Rectangle 8"/>
              <p:cNvSpPr/>
              <p:nvPr/>
            </p:nvSpPr>
            <p:spPr>
              <a:xfrm>
                <a:off x="684360" y="4292640"/>
                <a:ext cx="1353960" cy="15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Text Box 9"/>
              <p:cNvSpPr/>
              <p:nvPr/>
            </p:nvSpPr>
            <p:spPr>
              <a:xfrm>
                <a:off x="763560" y="4292640"/>
                <a:ext cx="127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33"/>
                    </a:solidFill>
                    <a:latin typeface="Arial"/>
                  </a:rPr>
                  <a:t>Lista dei recor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>
                <a:off x="923040" y="4978080"/>
                <a:ext cx="87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923040" y="5130720"/>
                <a:ext cx="875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923040" y="5283000"/>
                <a:ext cx="87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923040" y="5435280"/>
                <a:ext cx="87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99280" y="5130720"/>
                <a:ext cx="3903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Text Box 15"/>
              <p:cNvSpPr/>
              <p:nvPr/>
            </p:nvSpPr>
            <p:spPr>
              <a:xfrm>
                <a:off x="2118240" y="4597200"/>
                <a:ext cx="334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&lt;A HREF=“delete.php?id=&lt;?$</a:t>
                </a:r>
                <a:r>
                  <a:rPr b="1" lang="it-IT" sz="1400" spc="-1" strike="noStrike">
                    <a:solidFill>
                      <a:srgbClr val="ff0000"/>
                    </a:solidFill>
                    <a:latin typeface="Arial"/>
                  </a:rPr>
                  <a:t>ID</a:t>
                </a: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?&gt;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Text Box 16"/>
          <p:cNvSpPr/>
          <p:nvPr/>
        </p:nvSpPr>
        <p:spPr>
          <a:xfrm>
            <a:off x="5796000" y="38606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elete.ph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11280" y="39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istarecord.ph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1760"/>
            <a:ext cx="79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ifica record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1066680"/>
            <a:ext cx="7921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Nel caso della modifica di record già esistenti occorre selezionare il record da modificare, cambiare i dati e poi effettuare l’update. Quindi i passaggi da effettuare sono almeno tr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gina di selezione del record da modificare (lista dei reco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gina con FORM che riporta i campi del record con i valori da modificare del record selezion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gina di esecuzione di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4292640"/>
            <a:ext cx="1295280" cy="1523880"/>
            <a:chOff x="0" y="4292640"/>
            <a:chExt cx="1295280" cy="1523880"/>
          </a:xfrm>
        </p:grpSpPr>
        <p:sp>
          <p:nvSpPr>
            <p:cNvPr id="178" name="Rectangle 5"/>
            <p:cNvSpPr/>
            <p:nvPr/>
          </p:nvSpPr>
          <p:spPr>
            <a:xfrm>
              <a:off x="0" y="429264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76320" y="429264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33"/>
                  </a:solidFill>
                  <a:latin typeface="Arial"/>
                </a:rPr>
                <a:t>Lista dei recor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228600" y="4978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28600" y="5130720"/>
              <a:ext cx="83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228600" y="52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600" y="5435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Line 11"/>
          <p:cNvSpPr/>
          <p:nvPr/>
        </p:nvSpPr>
        <p:spPr>
          <a:xfrm>
            <a:off x="1258920" y="5105520"/>
            <a:ext cx="308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1258920" y="4724280"/>
            <a:ext cx="31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&lt;A HREF=“modifica.php?id=$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ID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419720" y="4267080"/>
            <a:ext cx="1828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419720" y="42670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Select * from tabella WHERE id=$_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GET[ID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4952880" y="5257800"/>
            <a:ext cx="9144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952880" y="5486400"/>
            <a:ext cx="9144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952880" y="5715000"/>
            <a:ext cx="9144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5562720" y="6019920"/>
            <a:ext cx="3808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632448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7010280" y="4267080"/>
            <a:ext cx="1882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6934320" y="4419720"/>
            <a:ext cx="19587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? $</a:t>
            </a:r>
            <a:r>
              <a:rPr b="1" lang="it-IT" sz="1400" spc="-1" strike="noStrike">
                <a:solidFill>
                  <a:srgbClr val="990033"/>
                </a:solidFill>
                <a:latin typeface="Arial"/>
              </a:rPr>
              <a:t>ID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=$_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GET[ID]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UPDATE tabella SET … WHERE </a:t>
            </a:r>
            <a:r>
              <a:rPr b="1" lang="it-IT" sz="1400" spc="-1" strike="noStrike">
                <a:solidFill>
                  <a:srgbClr val="990033"/>
                </a:solidFill>
                <a:latin typeface="Arial"/>
              </a:rPr>
              <a:t>ID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=$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isualizzazione dei dettagli dei record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Nelle pagine web, quando le tabelle sono molto complesse, può risultare utile suddividere la visualizzazione in due parti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prima parte con l’elenco dei record risultanti visualizzando solo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alcuni campi significativi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e una seconda parte dove, in seguito alla selezione di un record, vengono visualizzati tutti i dettagl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90" name="Picture 4" descr="treni1"/>
          <p:cNvPicPr/>
          <p:nvPr/>
        </p:nvPicPr>
        <p:blipFill>
          <a:blip r:embed="rId1"/>
          <a:stretch/>
        </p:blipFill>
        <p:spPr>
          <a:xfrm>
            <a:off x="179280" y="393840"/>
            <a:ext cx="8964720" cy="5464080"/>
          </a:xfrm>
          <a:prstGeom prst="rect">
            <a:avLst/>
          </a:prstGeom>
          <a:ln w="0">
            <a:noFill/>
          </a:ln>
        </p:spPr>
      </p:pic>
      <p:sp>
        <p:nvSpPr>
          <p:cNvPr id="91" name="Oval 7"/>
          <p:cNvSpPr/>
          <p:nvPr/>
        </p:nvSpPr>
        <p:spPr>
          <a:xfrm>
            <a:off x="2022480" y="4083120"/>
            <a:ext cx="785880" cy="5396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93" name="Picture 4" descr="treni2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grpSp>
        <p:nvGrpSpPr>
          <p:cNvPr id="95" name="Group 30"/>
          <p:cNvGrpSpPr/>
          <p:nvPr/>
        </p:nvGrpSpPr>
        <p:grpSpPr>
          <a:xfrm>
            <a:off x="428760" y="1955880"/>
            <a:ext cx="3198600" cy="3384360"/>
            <a:chOff x="428760" y="1955880"/>
            <a:chExt cx="3198600" cy="3384360"/>
          </a:xfrm>
        </p:grpSpPr>
        <p:sp>
          <p:nvSpPr>
            <p:cNvPr id="96" name="Rectangle 5"/>
            <p:cNvSpPr/>
            <p:nvPr/>
          </p:nvSpPr>
          <p:spPr>
            <a:xfrm>
              <a:off x="428760" y="1955880"/>
              <a:ext cx="3173040" cy="338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428760" y="2603160"/>
              <a:ext cx="318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428760" y="3252600"/>
              <a:ext cx="319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428760" y="3971520"/>
              <a:ext cx="316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428760" y="4692240"/>
              <a:ext cx="319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365120" y="1955880"/>
              <a:ext cx="0" cy="33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2444400" y="1955880"/>
              <a:ext cx="0" cy="33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3597120" y="1955880"/>
              <a:ext cx="0" cy="33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500040" y="2171520"/>
              <a:ext cx="79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1508040" y="2171520"/>
              <a:ext cx="79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2516040" y="2171520"/>
              <a:ext cx="100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Cog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644400" y="2747520"/>
              <a:ext cx="5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644400" y="3468240"/>
              <a:ext cx="5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20"/>
            <p:cNvSpPr/>
            <p:nvPr/>
          </p:nvSpPr>
          <p:spPr>
            <a:xfrm>
              <a:off x="644400" y="4187520"/>
              <a:ext cx="5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21"/>
            <p:cNvSpPr/>
            <p:nvPr/>
          </p:nvSpPr>
          <p:spPr>
            <a:xfrm>
              <a:off x="644400" y="4908240"/>
              <a:ext cx="5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1436400" y="2819160"/>
              <a:ext cx="8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Mar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1365120" y="346824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Giusepp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24"/>
            <p:cNvSpPr/>
            <p:nvPr/>
          </p:nvSpPr>
          <p:spPr>
            <a:xfrm>
              <a:off x="1365120" y="418752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Mar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25"/>
            <p:cNvSpPr/>
            <p:nvPr/>
          </p:nvSpPr>
          <p:spPr>
            <a:xfrm>
              <a:off x="1365120" y="487188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Luig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2516040" y="281916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Ross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2516040" y="346824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Bianch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2516040" y="418752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Ver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29"/>
            <p:cNvSpPr/>
            <p:nvPr/>
          </p:nvSpPr>
          <p:spPr>
            <a:xfrm>
              <a:off x="2444400" y="487188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Giall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Oval 31"/>
          <p:cNvSpPr/>
          <p:nvPr/>
        </p:nvSpPr>
        <p:spPr>
          <a:xfrm>
            <a:off x="343080" y="2644920"/>
            <a:ext cx="1047600" cy="5601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3913200" y="2925720"/>
            <a:ext cx="755640" cy="131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4913280" y="2073240"/>
            <a:ext cx="2938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me: M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gnome: Ro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dirizzo: Via Ver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ittà: P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0" y="5572080"/>
            <a:ext cx="39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gina generale di risultati, </a:t>
            </a:r>
            <a:r>
              <a:rPr b="0" lang="it-IT" sz="2400" spc="-1" strike="noStrike">
                <a:solidFill>
                  <a:srgbClr val="3399ff"/>
                </a:solidFill>
                <a:latin typeface="Arial"/>
              </a:rPr>
              <a:t>risultati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4862520" y="5202360"/>
            <a:ext cx="39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ttagli di Mario Ro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ttagli.php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drecord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4917960" y="1801800"/>
            <a:ext cx="3519720" cy="335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5120" y="-360"/>
            <a:ext cx="792036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– risultati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9360" y="1226880"/>
            <a:ext cx="868536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&lt;? …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while ($records=mysql_fetch_assoc($res))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//visualizzo solo gli ID, che diventano un link ad una pagina di dettag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cho "&lt;A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HREF=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ettagli.php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?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idrecord=$records[Progressivo]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&gt;</a:t>
            </a:r>
            <a:br>
              <a:rPr sz="2200"/>
            </a:b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ID: $records[Progressivo] &lt;/A&gt;&lt;BR&gt;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521080" y="3286080"/>
            <a:ext cx="1873080" cy="8571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19240" y="4491000"/>
            <a:ext cx="50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ink alla pagina dettagli.ph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068720" y="5200560"/>
            <a:ext cx="507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assaggio parametri alla pagine dettagli con il metodo GET, passo l’ID, cioè la chiave che mi permette di selezionare i dettagli del re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025720" y="3870000"/>
            <a:ext cx="479520" cy="709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5807160" y="4025880"/>
            <a:ext cx="182520" cy="13111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42640"/>
            <a:ext cx="7920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- dettagli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958320"/>
            <a:ext cx="79200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&lt;?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$id=$_GET[‘idrecord’];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// recupero l’id passato dal metodo GET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sql="select * from primatabella where Progressivo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=$id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=mysql_query($sql,$conn)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 die( “Errore!" . mysql_error()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// trovo i dati e visualizzo i dettagl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ile ($records=mysql_fetch_assoc($res))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cho "ID: $records[Progressivo] &lt;/A&gt;&lt;BR&gt;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cho "Nome: $records[Nome] &lt;BR&gt;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cho "Cognome:$records[Cognome] &lt;BR&gt;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……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// altri dati    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– dettagli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blema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es=mysql_query($sql,$conn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nuova pagina dettagli.php non ha più la connessione attiva! Occorre ripetere la connessione al databa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Possiamo modularizzare portando il codice per la connessione in un file include (.inc) e poi includerlo ogni pagina che dove si usa la connessione dal databa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2880" y="163080"/>
            <a:ext cx="79203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– connection.inc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&lt;?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 // setto i parametri della connessi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host="localhost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user="root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pass=“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XXXXXXX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//connessione al 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$conn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=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mysql_connect($dbhost,$dbuser,$dbpass) or die("impossibile accedere"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ara Renso</cp:lastModifiedBy>
  <dcterms:modified xsi:type="dcterms:W3CDTF">2010-05-13T16:08:31Z</dcterms:modified>
  <cp:revision>203</cp:revision>
  <dc:subject/>
  <dc:title>Laboratorio di Progettazione Web</dc:title>
</cp:coreProperties>
</file>